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5714-BA9C-4596-84DC-F605D528C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F1D5-B6A5-40F7-AA0E-687614E9B48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B11F3-E577-4CBB-928D-9E27FAE9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635AE-A0BA-4EC7-AB2C-2EEEDB91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3E79C-BF9E-4A1A-A8B1-72277F45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C8E48-D485-41D1-A663-EF975EEE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F9D9E-8477-4C7B-BFF8-B720B88E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92948-3682-4714-B276-8F6FDFDC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8C8AC-8B5C-4CF2-8BB3-BBCA0CF0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131F5-2B6B-4704-ADAB-CFBBC866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95347-7990-442C-9785-AD2BF6B6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87D31-C70A-4505-884C-1C773FFF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CC5A1-06C8-4FA2-A9AC-9DE5302F276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C7E2F-684F-4C1F-A1A6-5032AB94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8A26A-BD77-4D3C-8EFB-F7FA4025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04932-F4F5-41E4-ADDD-547AF024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A20F1-3F48-48E9-BDAD-CE811DCF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C256B-EFF2-465A-A55A-27E1D334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BCE1C-F0C0-427F-8EDE-94F285B3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7652D-4D6C-44C4-977C-F772808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72C05-B9BA-46CE-B721-8CCFCEB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D2D3E-F84E-4C7E-B81A-30AF95F4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80E03-022C-4E66-B2DE-1E184C51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B883-6729-4447-8B5D-6CD4A267A0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F3645-BC7F-47E8-9E2C-D66AFD3C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37E08-4150-416F-9086-05BDC066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5DF85-085E-4E55-8F45-DC67979D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E00C38-D288-4266-95BB-2428D4AF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213F8-426D-49E5-AD87-1444FEF5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D1BDC-A13A-4A77-B425-E4503ABC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8F61B-E1A5-4987-B9AB-958C81BE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4AFC8A-AE67-4F8B-A640-73C52F49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007CB-ABF4-4433-85C0-E17B09AC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AAF68-CB9D-4974-883B-1EB565A7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6B5E0-45C5-44CD-8BF4-C6904DEC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5B53C-7021-42C2-8840-B1629298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B5119-7707-4EB4-AB19-B22EE228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55978-A0A1-40E0-82FB-A7BA433A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241078-3D9F-4C04-8CCB-FE7B82A9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ADE884-26AA-4B92-B1FD-020642D9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9CEB5A-9F6D-4ABE-AB4E-1F049A8F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309A9B-1AE1-4CBB-9FA5-EC87F3AE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DC7501-5619-46D0-B386-C07D1615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E1DF8E-D236-401B-9DF4-7E695FCE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ED186-E1F6-4C01-839E-CED304EE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15E87-7B80-4FE7-9E6A-62D4B16A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282CDF-3103-442F-9D35-80E2DFD7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08166D-D18C-4E26-8A8A-5C004F5F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024E65-2A86-4D00-8CA6-DDC0327D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E7F96E-F6C6-4D14-980B-A684F317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2D847A-4C81-4B43-A0BE-6EBF286E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FADD4B-A6F9-4063-86C5-09EC26A5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D50C06-8687-4A2B-A4A3-25BDC58C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BBAECB-59B2-4942-9C6D-509D9234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1017C3-56D9-4F69-AE42-4DCB39AD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1C892E-CBBD-42F1-9A5D-1267683B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C0D5F-5BDA-458A-874A-0F51672D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05CCF8-E614-4D66-9DF3-7C4045D9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A8D2AF-B81C-495D-8824-A135A501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F031CF-A365-41A0-B71B-DD8B3414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01DFDB-BA66-4778-A5DE-95E5C16D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3A2C9D-7283-48F9-AFD3-4A0955CD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A41915-B306-4CDF-BDFF-DC7CB56D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21310C-41C5-43B9-873D-E57DC392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49E678-A020-4DCF-91BA-6C3C2150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6D3988-988C-485E-ADBD-1DA83BA6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896F68-F654-4A67-A03D-49189E02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197B1-8A2D-4254-8850-AD18A49F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ED53D6-C536-4FDF-803E-8D629734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629171-DAA0-40A7-BFCB-98098E6A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E9A992-477E-401D-B4D2-8088C5DA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636F63-8A27-4057-98B8-3828E8D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C692BD-09CC-4C25-96CF-2ACA04AA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D28995-42FA-42EB-86BA-344C1DA9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C4151A-3A67-4812-ADA7-47AA39A1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A12C5A-AD80-4B71-BA54-03C89411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A34711-DBF1-40D4-AC38-26CCAB9A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5C1F32-F2A4-46D6-A20C-54C9567E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08C65-5F51-4087-8DA4-6840E62D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0FA41E-ADDF-4B17-AB91-D02A7555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55F00F-7541-4FBE-89B1-24A23B56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7AF6FC-83FE-4D01-A2A4-BD99287B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995203-891D-4FC1-97DB-85049797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9892F1-8C93-435B-8997-004535BC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9396B0-D400-4AA3-A219-C4D7AF0A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45A7A0-19AB-411A-BDC0-C16BB19E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11CDF2-017A-4085-91ED-51313BD6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AEA5DA-700F-4EA1-8572-19D01391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DBA571-A555-422E-83E5-63BA01C1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848B1-F21A-4689-A0F0-BEDD9395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6E6355-047D-44CF-95C2-D73CF7E9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C1D916-81E6-4684-A06D-13446476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AECD32-7401-44AE-9188-8EEE71BA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D2F5F3-DC4D-4594-A5E8-4F5B2295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2B67B1-D034-48DE-886B-CBFFE41D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82E774-10F7-4D2B-964C-95CACC8E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08DA7B-86B6-481E-8928-750A6190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3E9EFB-4E86-4FA7-ADAD-AAA629BD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226F26-F2F2-4E5A-B31E-3ABE47A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B33AB2-A727-4BB1-8437-44DEB36A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D407F-A4D0-47FE-9490-64484272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E00C4D-A093-4BD4-9F72-EAE0F6F2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FAE102-B309-49FB-9BEE-91FE4685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CC4A05-57C4-49BC-BFCA-408A8CDD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BD1747-2F2F-4665-989C-366705BE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C28686-DBE8-4863-B4D2-E1B262BA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BA51FD-B09A-414B-BC4A-31A0550D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9E6DF0-9928-46F2-A90A-915ABE3B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142271-F508-442C-A71E-2DA8C86C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2540A0-A6F9-4A8F-9690-B94FB54D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1220DB-A495-4B34-8EE6-72F5D282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C987-70BE-472F-9483-67AAE9FCA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20FB7-D38D-4109-B06B-DDFCB1A0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F73F34-2951-494D-A3F2-DDD8EFFA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F0D042-DA70-4220-9ADF-232CCC32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CA0049-A473-4733-9613-EA0DEDF5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21AA93-4BD7-46DA-95FF-4F31E89F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BE52F7-4ABD-4817-84C4-3501BD80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8F32C3-B8E9-470C-B6CA-BA331270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51C09D-9F96-4FA5-8CD3-18FCE214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552043-5CEA-4AF8-A88C-19B37D73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066603-D48A-43A0-ADFF-9B452474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FA5B99-B8E2-49B4-BF23-73D7D9D5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D1E36-C860-4458-8A62-9C8C9F60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66222D-3118-4FDE-A5CC-82E77501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2AD1D8-E8FD-47DB-81C7-90B3751B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E1D07F-F35B-4DC4-810B-0C0CCA90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3D36F3-BC00-4747-8527-2E8D246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EEC92B8-EE91-4266-A672-1F9C283F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711DCE-FDB3-46AB-A28C-9A502768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DD81B5-4988-494C-B3A6-33188593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337A11-0E4A-416C-8E0D-321BF093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E31385-CD49-4065-9ACB-11A7A28A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08ABAC-45CB-4775-BD04-B428AF99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503C5-64ED-4A77-BE47-1D160516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B1174A-C7B3-49BC-AF97-1B5F3732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DA6DC9-1C6B-48D2-9315-2A342A12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0904BB-A4D3-4FCB-92E9-728C0D0E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479F92-E308-47C0-BD28-19C8505B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692616-59E4-44F0-9F0D-D1CA50C2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AB27E0-D7C7-43CF-8A51-6552645C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D3BDF8-350E-43B0-B37C-CF029A5C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C91167-7DF0-4304-B25A-E7987FAC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AF5E12-089B-472D-A7C2-78E87518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270480-3C0D-476B-939E-9536A6C7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E9CE8-BA42-481F-A44D-EF6FC28D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A903FE-F607-45B5-A4EE-96A0941E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8EAF9E-C65C-4CF9-AF31-1ABA8E47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A32E6B-0449-4927-A65C-35F685B4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A9B5EB-0A12-4EF6-837B-C7094F2D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812FA9-8CB4-4545-9E46-059C47CE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3BB76C-21CE-4FE1-9B2B-0D03DCC2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0615B07-C478-418C-B2E2-BC3EE18B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CEF76F-AF88-46BA-BF74-E98C09D4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830A98-5F25-435D-9960-C30BFADF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DB9AE2-2B6B-46BB-8EC2-F78DB903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ACB6E-5094-4803-A078-081665F3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C671FB-3853-445F-959A-5259F534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2EC8-8CF0-4D8C-9251-911AA32EB1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B6A6-6463-4A02-8CF7-510012DD9D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88D74-05F2-46BB-913A-07A1395B32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EC54-5639-44A9-920B-5AA942DD1A5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EC916-E9D7-4242-A980-5775569B0C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64C0A-8E42-4A5B-A3CA-6B3888C3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A961A-52F0-4153-9F10-5F7C231D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E5247-F55D-4294-AB54-4D6E1CC4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676EA-F5C8-4293-B9DF-F5342EB2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020B5-E51A-4E01-87FA-836E0886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52F7A-B572-4C9B-A52E-7BF75407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87B3C-9A42-41E7-8B91-CC39949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26F1-16DC-4420-ADFD-AEDEA6DC495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52597-A54A-4B9E-8E6B-A794EB6C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40D41-4EB6-4A1B-B616-4E86E60A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0BEAA-6EB6-413A-8026-1F538410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248BE-DC68-4340-85D0-C29EAF8C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3C5BD-7A17-4B5F-8465-A18DE21F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06D95-4050-4594-89D5-93D5BBDE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ACB56-E953-4EF6-9B04-3348E796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23FD3-F923-4A56-9536-9F2B8540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14717-8F83-4B77-909B-3122CC94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5C8DE-0689-4DD4-B20B-02803F2E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5C16-4548-40AA-81FB-DFC7216727E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594360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43255-ECAF-4154-8EE8-80DAB915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34A98-7A41-48E2-B49D-E7C97AEF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E019D-A04B-4308-91D1-E786BE7B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30279-DFB6-4151-A003-65301BA9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019F7-1102-4419-9596-1FBE0A38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1E9B98-8806-4BB9-845C-87C7FBBA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F5532C-4A23-4C35-8EEE-53F6472E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466FD-200A-41E8-8BBA-9126A694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279E8-DFE4-422F-B8CB-9F15F9CB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49E6E-383A-465A-BBBB-77AC612D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3987-BB35-4E0E-B657-3B646F48D6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5"/>
          </p:nvPr>
        </p:nvSpPr>
        <p:spPr>
          <a:xfrm>
            <a:off x="456840" y="650556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6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7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0866-F00D-42B0-AFFF-E5E4280412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8"/>
          </p:nvPr>
        </p:nvSpPr>
        <p:spPr>
          <a:xfrm>
            <a:off x="456840" y="650556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9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0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0EFC-866F-439C-B35B-47353C9C2F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1"/>
          </p:nvPr>
        </p:nvSpPr>
        <p:spPr>
          <a:xfrm>
            <a:off x="456840" y="650556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2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3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2FEC-85D8-4050-B7B6-FB7D7F046A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4"/>
          </p:nvPr>
        </p:nvSpPr>
        <p:spPr>
          <a:xfrm>
            <a:off x="456840" y="650556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5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6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452F-FB46-4A28-9D96-DA6A070059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27"/>
          </p:nvPr>
        </p:nvSpPr>
        <p:spPr>
          <a:xfrm>
            <a:off x="456840" y="647388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28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29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32A4-4255-4619-AABB-DD3DD13359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0"/>
          </p:nvPr>
        </p:nvSpPr>
        <p:spPr>
          <a:xfrm>
            <a:off x="456840" y="650556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1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2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7A5B-635E-49A9-8028-9CFAEBA17B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3"/>
          </p:nvPr>
        </p:nvSpPr>
        <p:spPr>
          <a:xfrm>
            <a:off x="456840" y="651996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4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5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8666-009B-4E1E-BB3F-7031848E78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6"/>
          </p:nvPr>
        </p:nvSpPr>
        <p:spPr>
          <a:xfrm>
            <a:off x="456840" y="651996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7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8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4EBE-E015-49DF-9783-F66415813F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39"/>
          </p:nvPr>
        </p:nvSpPr>
        <p:spPr>
          <a:xfrm>
            <a:off x="456840" y="650556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0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1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832F-8EB6-4A88-B8ED-DF0CF9F120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42"/>
          </p:nvPr>
        </p:nvSpPr>
        <p:spPr>
          <a:xfrm>
            <a:off x="456840" y="651996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43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44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6376-9E70-499B-B90C-C4107DE3BCD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D925-CD4D-457C-A03F-D53EBF3B544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5"/>
          </p:nvPr>
        </p:nvSpPr>
        <p:spPr>
          <a:xfrm>
            <a:off x="456840" y="651996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46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47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5903-BE4F-48FA-BBC1-E5FC8DCD9A6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パーツ3"/>
          <p:cNvPicPr/>
          <p:nvPr/>
        </p:nvPicPr>
        <p:blipFill>
          <a:blip r:embed="rId2"/>
          <a:stretch/>
        </p:blipFill>
        <p:spPr>
          <a:xfrm>
            <a:off x="0" y="2746440"/>
            <a:ext cx="9144000" cy="136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1640" y="2714760"/>
            <a:ext cx="5759640" cy="69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19000" y="3265200"/>
            <a:ext cx="5732640" cy="282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 fontScale="10000"/>
          </a:bodyPr>
          <a:p>
            <a:pPr marL="35640" indent="-35640">
              <a:spcBef>
                <a:spcPts val="37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7760" indent="-298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9520" indent="-237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7400" indent="-237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横150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0200" y="2714760"/>
            <a:ext cx="5052960" cy="69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3265200"/>
            <a:ext cx="4865760" cy="282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 fontScale="10000"/>
          </a:bodyPr>
          <a:p>
            <a:pPr marL="35640" indent="-35640">
              <a:spcBef>
                <a:spcPts val="37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7760" indent="-298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9520" indent="-237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7400" indent="-237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自転車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9840" y="2714760"/>
            <a:ext cx="4892760" cy="69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3265200"/>
            <a:ext cx="4865760" cy="282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 fontScale="10000"/>
          </a:bodyPr>
          <a:p>
            <a:pPr marL="35640" indent="-35640">
              <a:spcBef>
                <a:spcPts val="37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7760" indent="-298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9520" indent="-237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7400" indent="-237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横150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0200" y="2714760"/>
            <a:ext cx="5052960" cy="69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523800" y="3319200"/>
            <a:ext cx="4865760" cy="282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rmAutofit fontScale="10000"/>
          </a:bodyPr>
          <a:p>
            <a:pPr marL="35640" indent="-35640">
              <a:spcBef>
                <a:spcPts val="374"/>
              </a:spcBef>
              <a:buClr>
                <a:srgbClr val="000000"/>
              </a:buClr>
              <a:buFont typeface="Arial Unicode MS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760" indent="-298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9520" indent="-2376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7400" indent="-237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5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6" marL="215280" indent="-2376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7FFC-58C4-4360-947D-690097A01E10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298F-6D62-45C8-A877-8AB7E90BB362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9"/>
          </p:nvPr>
        </p:nvSpPr>
        <p:spPr>
          <a:xfrm>
            <a:off x="398160" y="644508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0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1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31E0-2FA1-4B6D-B927-1D517B8FB6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テキスト ボックス 6"/>
          <p:cNvSpPr/>
          <p:nvPr/>
        </p:nvSpPr>
        <p:spPr>
          <a:xfrm>
            <a:off x="426960" y="6224760"/>
            <a:ext cx="8348760" cy="246240"/>
          </a:xfrm>
          <a:prstGeom prst="rect">
            <a:avLst/>
          </a:prstGeom>
          <a:solidFill>
            <a:srgbClr val="4eb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, Copyright </a:t>
            </a: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ⓒ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rata Software Co., Lt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線コネクタ 9"/>
          <p:cNvSpPr/>
          <p:nvPr/>
        </p:nvSpPr>
        <p:spPr>
          <a:xfrm>
            <a:off x="426960" y="1120680"/>
            <a:ext cx="84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図 1" descr=""/>
          <p:cNvPicPr/>
          <p:nvPr/>
        </p:nvPicPr>
        <p:blipFill>
          <a:blip r:embed="rId2"/>
          <a:stretch/>
        </p:blipFill>
        <p:spPr>
          <a:xfrm>
            <a:off x="6400800" y="506520"/>
            <a:ext cx="2502000" cy="2728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2"/>
          </p:nvPr>
        </p:nvSpPr>
        <p:spPr>
          <a:xfrm>
            <a:off x="456840" y="650556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3"/>
          </p:nvPr>
        </p:nvSpPr>
        <p:spPr>
          <a:xfrm>
            <a:off x="3124080" y="6473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4"/>
          </p:nvPr>
        </p:nvSpPr>
        <p:spPr>
          <a:xfrm>
            <a:off x="6552720" y="6536880"/>
            <a:ext cx="213372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4C85-7904-4FF8-AFCD-1CF69C0B4B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localhost:1947/" TargetMode="External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to check access 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3921120" y="5511960"/>
            <a:ext cx="49068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rata Software Co., L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図 1" descr=""/>
          <p:cNvPicPr/>
          <p:nvPr/>
        </p:nvPicPr>
        <p:blipFill>
          <a:blip r:embed="rId1"/>
          <a:stretch/>
        </p:blipFill>
        <p:spPr>
          <a:xfrm>
            <a:off x="689040" y="2438280"/>
            <a:ext cx="7615080" cy="2721240"/>
          </a:xfrm>
          <a:prstGeom prst="rect">
            <a:avLst/>
          </a:prstGeom>
          <a:ln w="0">
            <a:noFill/>
          </a:ln>
        </p:spPr>
      </p:pic>
      <p:sp>
        <p:nvSpPr>
          <p:cNvPr id="856" name="タイトル 1"/>
          <p:cNvSpPr/>
          <p:nvPr/>
        </p:nvSpPr>
        <p:spPr>
          <a:xfrm>
            <a:off x="961920" y="206280"/>
            <a:ext cx="52768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 file output set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正方形/長方形 3"/>
          <p:cNvSpPr/>
          <p:nvPr/>
        </p:nvSpPr>
        <p:spPr>
          <a:xfrm>
            <a:off x="419040" y="1287360"/>
            <a:ext cx="753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 the following link on the server P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localhost:1947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正方形/長方形 10"/>
          <p:cNvSpPr/>
          <p:nvPr/>
        </p:nvSpPr>
        <p:spPr>
          <a:xfrm>
            <a:off x="419040" y="1287360"/>
            <a:ext cx="9085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nge to “Configration” ta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eck “Write an Access Log File” “Include Local Requests” and “Include Remote Requests 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“Sumit” butt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mbria Math"/>
              </a:rPr>
              <a:t>Log file is saved at “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  <a:ea typeface="Cambria Math"/>
              </a:rPr>
              <a:t>C:\Program Files</a:t>
            </a:r>
            <a:r>
              <a:rPr b="0" lang="ja-JP" sz="1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  <a:ea typeface="Cambria Math"/>
              </a:rPr>
              <a:t>(x86)\Common Files\Aladdin Shared\HASP\access.lo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mbria Math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タイトル 1"/>
          <p:cNvSpPr/>
          <p:nvPr/>
        </p:nvSpPr>
        <p:spPr>
          <a:xfrm>
            <a:off x="961920" y="206280"/>
            <a:ext cx="52768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 file output set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図 1" descr=""/>
          <p:cNvPicPr/>
          <p:nvPr/>
        </p:nvPicPr>
        <p:blipFill>
          <a:blip r:embed="rId1"/>
          <a:stretch/>
        </p:blipFill>
        <p:spPr>
          <a:xfrm>
            <a:off x="961920" y="2241720"/>
            <a:ext cx="7404120" cy="4417920"/>
          </a:xfrm>
          <a:prstGeom prst="rect">
            <a:avLst/>
          </a:prstGeom>
          <a:ln w="0">
            <a:noFill/>
          </a:ln>
        </p:spPr>
      </p:pic>
      <p:sp>
        <p:nvSpPr>
          <p:cNvPr id="861" name="角丸四角形 2"/>
          <p:cNvSpPr/>
          <p:nvPr/>
        </p:nvSpPr>
        <p:spPr>
          <a:xfrm>
            <a:off x="961920" y="2844720"/>
            <a:ext cx="743040" cy="193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角丸四角形 12"/>
          <p:cNvSpPr/>
          <p:nvPr/>
        </p:nvSpPr>
        <p:spPr>
          <a:xfrm>
            <a:off x="4081320" y="3402000"/>
            <a:ext cx="349560" cy="673200"/>
          </a:xfrm>
          <a:custGeom>
            <a:avLst/>
            <a:gdLst>
              <a:gd name="textAreaLeft" fmla="*/ 16920 w 349560"/>
              <a:gd name="textAreaRight" fmla="*/ 332640 w 349560"/>
              <a:gd name="textAreaTop" fmla="*/ 16920 h 673200"/>
              <a:gd name="textAreaBottom" fmla="*/ 656280 h 673200"/>
            </a:gdLst>
            <a:ahLst/>
            <a:rect l="textAreaLeft" t="textAreaTop" r="textAreaRight" b="textAreaBottom"/>
            <a:pathLst>
              <a:path w="21600" h="41578">
                <a:moveTo>
                  <a:pt x="3600" y="0"/>
                </a:moveTo>
                <a:arcTo wR="3600" hR="3600" stAng="16200000" swAng="-5400000"/>
                <a:lnTo>
                  <a:pt x="0" y="37978"/>
                </a:lnTo>
                <a:arcTo wR="3600" hR="3600" stAng="10800000" swAng="-5400000"/>
                <a:lnTo>
                  <a:pt x="18000" y="415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角丸四角形 13"/>
          <p:cNvSpPr/>
          <p:nvPr/>
        </p:nvSpPr>
        <p:spPr>
          <a:xfrm>
            <a:off x="4102200" y="5985000"/>
            <a:ext cx="442800" cy="296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14" descr=""/>
          <p:cNvPicPr/>
          <p:nvPr/>
        </p:nvPicPr>
        <p:blipFill>
          <a:blip r:embed="rId1"/>
          <a:stretch/>
        </p:blipFill>
        <p:spPr>
          <a:xfrm>
            <a:off x="150840" y="4143240"/>
            <a:ext cx="8694720" cy="2048040"/>
          </a:xfrm>
          <a:prstGeom prst="rect">
            <a:avLst/>
          </a:prstGeom>
          <a:ln w="0">
            <a:noFill/>
          </a:ln>
        </p:spPr>
      </p:pic>
      <p:sp>
        <p:nvSpPr>
          <p:cNvPr id="865" name="テキスト ボックス 8"/>
          <p:cNvSpPr/>
          <p:nvPr/>
        </p:nvSpPr>
        <p:spPr>
          <a:xfrm>
            <a:off x="433440" y="1181160"/>
            <a:ext cx="83296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emtet Startu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Calibri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yyy-mm-dd hh:mm:s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Calibri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P Adres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User name@PC name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Calibri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XX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Calibri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LOGIN_EX ( XXX feat=1,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emtet shutdow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Calibri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yyyy-mm-dd hh:mm:s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Calibri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P Adress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User name@PC name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Calibri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XXX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Calibri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LOGOUT ( XXX feat=1,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By examining the difference between startup to shutdown, you can see the time you were logged in (femtet usage time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eat=XXX me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eat=101-105 -&gt; Femtet Profes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feat=200 -&gt; CAD Transl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If you are unable to log in, you will see Result(38) in the 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タイトル 1"/>
          <p:cNvSpPr/>
          <p:nvPr/>
        </p:nvSpPr>
        <p:spPr>
          <a:xfrm>
            <a:off x="961920" y="206280"/>
            <a:ext cx="52768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 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正方形/長方形 14"/>
          <p:cNvSpPr/>
          <p:nvPr/>
        </p:nvSpPr>
        <p:spPr>
          <a:xfrm>
            <a:off x="1360440" y="4562640"/>
            <a:ext cx="7391520" cy="16164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正方形/長方形 18"/>
          <p:cNvSpPr/>
          <p:nvPr/>
        </p:nvSpPr>
        <p:spPr>
          <a:xfrm>
            <a:off x="1360440" y="4971960"/>
            <a:ext cx="7391520" cy="162000"/>
          </a:xfrm>
          <a:prstGeom prst="rect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図 1" descr=""/>
          <p:cNvPicPr/>
          <p:nvPr/>
        </p:nvPicPr>
        <p:blipFill>
          <a:blip r:embed="rId1"/>
          <a:stretch/>
        </p:blipFill>
        <p:spPr>
          <a:xfrm>
            <a:off x="1919160" y="2309760"/>
            <a:ext cx="5305680" cy="223848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943600" cy="6984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 file l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正方形/長方形 4"/>
          <p:cNvSpPr/>
          <p:nvPr/>
        </p:nvSpPr>
        <p:spPr>
          <a:xfrm>
            <a:off x="3613320" y="4281480"/>
            <a:ext cx="588960" cy="1843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正方形/長方形 5"/>
          <p:cNvSpPr/>
          <p:nvPr/>
        </p:nvSpPr>
        <p:spPr>
          <a:xfrm>
            <a:off x="2630520" y="2610000"/>
            <a:ext cx="3562200" cy="1807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5:22:48Z</dcterms:created>
  <dc:creator/>
  <dc:description/>
  <dc:language>en-US</dc:language>
  <cp:lastModifiedBy/>
  <dcterms:modified xsi:type="dcterms:W3CDTF">2019-11-28T08:28:52Z</dcterms:modified>
  <cp:revision>32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c_System_Copyright">
    <vt:lpwstr/>
  </property>
</Properties>
</file>